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4992-1D60-4911-8298-7864DE68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A00-F0B8-413E-AB38-8ACCAAFC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CF00-8438-4CBE-9D95-0505AF25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4A2A-D2EE-4E6F-A13B-89868928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E085-38CA-4696-9697-50A7B43F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B335-F6CE-4303-A642-5124AE31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697D-63E0-4B13-9F0C-2D974D90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0984-1D71-451D-886B-21A712DC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4D91-1F8F-45F0-A27E-F6394947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23F2-4966-496B-9A0A-A0C22136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583F-9EFF-4282-AA77-E2B03B76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B22-8D35-4D19-A07D-A14577E9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E5FC-B377-4444-AC48-3644845B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E91E-DE5C-48AB-A2FA-ABFB9A06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53AE-47E9-4C56-8597-A1A2E1CA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3C5C-822C-4641-A3C7-30F52888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7E2D-251D-4FE4-8237-903561D2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5B2-BF6E-40DC-9A86-A8E4B5B6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37E-B511-4AEC-A3AF-5A8F9EA9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E36-F707-4CCF-8E98-AAF16CCF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038B-1844-4FC1-A5F4-03891AFC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81E-C6BD-451F-B30B-12DD0683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D8F-460E-4D5D-8FC0-A64BBAB2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826-2D2C-4C0A-BE3C-5FCB1C9E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750F-5FB2-4A32-9BA8-92F309CE420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D2C5-8DC9-4EBF-8057-BA8A3783B1E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iteracy and Technology Integration in the Classroom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ephanie Ciaravo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ucation 702.2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pring 20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dterm Pres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urrent Practices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id Pi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ok Adven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d Proce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ypothesi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 believe that with an increase of technology in the classroom, rates of student participation and active engagement will increas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 Baker, E. (2000). Integrating Literacy and Tool-Based Techniques: Examining the Successes and Challenges.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Computers in the Schools, 16, (2),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73-89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arone, D. &amp; Wright, T. E. (2009).literacy Instruction with Digital and Media Technologies.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The Reading Teacher,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62, (4),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292 – 303. Retrieved from JSTOR. Doi:10.1598/RT.62.4.2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uce B. C., &amp; Bishop A. P. (2002). Using the Web to Support Inquiry- Based Literacy Development.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Journal of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Adolescent &amp; Adult Literacy, 45, (8)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06 – 714. Retrieved from JSTO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archmer, R. A. (2001). The Journey Ahead: Thirteen Teachers Report How the Internet Influences Literacy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teracy Instruction in Their K – 12 Classrooms.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Reading Research Quarterly, 36, (4),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442- 466. Retriev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JSTO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cArthur, C. A., Ferretti, R. P.,  Okolo, C. M., &amp; Cavalier, A. R. (2001). Technology Applications for Students with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teracy Problems: A Critical Review.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The Elementary School Journal, 101, (3)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73 - 30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loy, J. A., &amp; Gambrell L. B. (2006). Approaching the Unavoidable: Literacy instruction and the Internet.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Reading Teacher, 59, (5)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82 – 484. Retrieved from JSTOR. doi:10.1598/RT 59 9 8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mali, L. (2003). Ways with Visual Languages Making the Case for Critical Media Literacy.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The Clearing House,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76, (6),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271- 277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oman, E. (2003). Media Literacy: A Guided Tour of the Best Resources for Teaching.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The Clearing House, 76 (6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78-283. Retrieved from JSTO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tts-Taffe, S., Gwinn, C. B., Johnson, J. B., &amp; Horn, M. L. (2003). Preparing Pre-service teachers to integrat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chnology with the elementary literacy program.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The Reading Teacher, 57 (2),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130 –138. Retrieve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STOR.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odbridge, J. (2004). Technology Integration as a Transforming Teaching Strategy.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Technology and Learning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trieved from http://www.techlearning.com/article/2022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able of Cont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tement of the Problem  Pg. 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iew of The Literature Pg. 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ypothesis Pg. 1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ferences Pg. 1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atement of the Proble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-service teachers are learning technological tools and concepts during their education. However, when it comes time to implement this knowledge there is a lack of ability of bringing this theory to reality. With an increase of proper use of technology in the classroom, perhaps student participation and active engagement will also increase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Review of the Literatur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ierson defined technology integration as teachers utilizing content and technological and pedagogical expertise effectively for the benefit of student’s learning.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Woodbridge, Techlearning.co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Nicaise and Barnes compared technology to a tool that they used to promote a student centered, active learning environment”</a:t>
            </a:r>
            <a:br>
              <a:rPr sz="40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-  Rachel Karchmer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necting media literacy to the state standards for subject areas is currently a major challenge of the media literacy movement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Elizabeth Thoma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eachers are not generally prepared to use these new technologies of literacies or to teach children how to use them effectively”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Rachel Karchm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Times New Roman"/>
              </a:rPr>
              <a:t>Theorists</a:t>
            </a:r>
            <a:br>
              <a:rPr sz="80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Howard Gardner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 Multiple Intelligen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bal/Linguist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gical/Mathematic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inesthetic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sual/spatial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usical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erperso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raperso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turalist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00:32:32Z</dcterms:created>
  <dc:creator>Stephanie Ciaravolo</dc:creator>
  <dc:description/>
  <dc:language>en-US</dc:language>
  <cp:lastModifiedBy>Stephanie Ciaravolo</cp:lastModifiedBy>
  <dcterms:modified xsi:type="dcterms:W3CDTF">2010-03-16T19:42:01Z</dcterms:modified>
  <cp:revision>38</cp:revision>
  <dc:subject/>
  <dc:title>Literacy and Technology Integration in the Classroom Increasing Participation and Active Engagement of Students</dc:title>
</cp:coreProperties>
</file>